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98E5-B970-4081-A728-6BE3098D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FD47-F237-4801-AB94-0FA0666D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54174-D273-4A40-B969-525DE625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97E8C6-41F5-456E-846C-2AB2507D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6108F-44F6-4139-9AB5-EEC7CEB3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A4CE2-3E61-43ED-803A-2216E654A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3D568-E04E-459D-B43D-3507E9AE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EB761-CE18-41D0-A9F6-6FA3F1AA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CB2CD7-C689-4514-869E-97C7D45DF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0E928-FF85-4C4C-9384-9099EC45D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18CF6-610D-4CE1-BA5E-B18E10C2C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869477-3F7B-4E4F-A175-563CD5C7D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5D7-90E9-42CD-9815-EF7852B6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1D588-0F25-4F11-AB44-701B39B6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EEABC-9679-4F7A-A70E-AB799EEF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7CD20-E79A-4D6B-A411-B0FB0849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0C1C6C-C9DE-47E1-AF09-1F18E688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20194-5069-40C0-946E-C9AF117B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F17917-859D-4FE5-92E8-D75267B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EF2CBD-6A1D-4B86-8417-F2A54578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A35C9-BB29-4911-AF18-C5788979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8D3A8-4102-4024-A436-656A4499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15F121-4A6E-4736-8C1B-9748A934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1304-65C2-48F7-97CB-B927BD2E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05598-7058-45D8-8895-518B7EEB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6BC71-F182-4CF1-AA51-29A05558B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51602-6C0C-4968-AA19-05CE888F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67BF-F602-40BE-A0C3-C5FB60E6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17898-6E50-4F9E-BD01-B51F5E857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D96A9-9709-463C-BCB8-FFC6F7F21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20ABC-9F94-4BF5-94A1-7FF692D0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D28F2-F414-4D21-89D9-18CBB6ED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FD51FF-6687-45B7-BF29-580C585D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92E15A-5902-4BD2-9952-B9A5340B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D9F4F-154A-4456-9CF9-388816409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A2A07-0705-4B39-8FF0-B7370376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DE244-B974-47C6-9E22-7664179C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4BB50-8D79-48B8-92E4-FC4C9D51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925C00-04B5-41A2-9892-6D0A8C5C8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B8CC-D04A-480F-A028-94484B0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3EC39-A2A2-42E5-B229-D5180105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4E117-DAA9-4F24-8AAA-9AD96F93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3B0EAC-BD23-49F7-918F-27848593F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BA687-756A-4C5B-90FB-1A8FBED2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431343-0B58-4A42-BAC1-86DFF52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7CB5-DBED-4379-858F-FD2DD329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B0B1A-E680-4817-9C58-19F3EE06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D14B6-FCA5-489D-9FE9-1485A469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10DDFF-6CC8-44E9-A602-FCA5BBE4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ABD54F-D38A-4CBE-A660-A887DF557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6FFCD3-F281-4DB1-98B5-99E56B83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FF362B-EF01-4F87-9097-57F2AB1ED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0D629-57FA-4F59-955B-D8013000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79E73-C2A8-48BD-AC04-F07D251D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DD144-19F0-4FC3-B9AA-A5D5C284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55DD79-4DA1-47C5-8264-04922F7A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1FC2-69E0-4274-9A70-45120E34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2AA62-5D25-4FA7-9B95-78690B46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C06FF3-68AC-41E7-819B-DB7B2E7A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22199-EE21-464C-9206-BE6315BD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D6687-49D9-41BB-8368-16F925C6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370649-BA54-4F19-A5A5-65AD362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D84E1-9F68-408B-8D33-6017F3B14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BAC5D-7CFE-4D4D-BA26-EEA3ADE9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8406-F04F-4E03-9521-77E88A3D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6562A-051A-4F72-84AE-D26AD26B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0A2E-E058-43B3-A30C-1CF3AC49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11C2A-5BD4-468A-9F45-88FCB7C9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ED0-B775-473E-B212-D5C38612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57DF-3B99-4DAE-BF24-6C2617DF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2ADA2-C322-4870-A4AA-2461768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AE34-F360-4C8C-9D78-2DEFD2E1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95D4-C95F-47C4-8D85-139EF94B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3D07-BDF4-4B13-9558-1C6B25E91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AC14E-AB40-41F1-BD17-BD8915B83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3CFE95-1C6F-45C3-A7E9-0AA67BA3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EC1AB-E3A9-4C52-95B2-86305678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CB396-3ADD-4208-A5F8-9CF361DD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6D604-0500-46B6-9B14-61EA170F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AE4-C298-4B27-B89E-C26BDFC8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5EB4-5347-438B-A03E-A3D92201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F9054-898B-4F08-A802-8234670B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0A4D6-28F9-4648-85D9-6D0F40BD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CB792-8C04-47C8-97E7-D4B805A8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2AA99-7684-4319-87BA-130BCBA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8FE54-6571-45AC-9172-D44DBD0A1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F97E7-8DA3-47DF-AD63-3BBA4A9D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3E6F1-02CA-4F86-9648-47F42872A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2C5D9-7FF0-49B2-8AA6-E73D14FF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6A434-AF48-4A0D-BB1C-8E89F4BC2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71DB-330A-40F4-A5EF-11F7F175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EA7E2-6FFF-47C9-996A-163A8758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26ADB-DA72-401A-A230-76B3AC9D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9F99B-24B9-47E4-B9B9-4B479E71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594BD-595A-47B7-9662-9DBEB1AF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F97D-B1C3-4269-94C5-9184C1FB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F8DA1-3ADF-4710-AF96-F61FB2B0E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4A1E-A566-48F6-93B0-0FDCDDFE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E448E-6696-444A-BC9D-2230A74A7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8B7D-B1A7-4BCB-9DBE-14F73BB2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0C604-6E7E-4E98-9B45-0317FF1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86E-303E-46A5-AB73-66E2AE73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6F25-8E6E-4B2C-B9DD-4D9E08D7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3BE73-CDBC-4F10-AA46-9EB22CC4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D3017-BC9C-4D1A-A3CE-390B1456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7A73D-B2A1-40C1-9265-5556B9E1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4BA1A-EC5C-4CBA-A53D-6E9667FB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AE0F-CAEB-474E-A2FE-A4123AA8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5E16-C186-4578-AD43-0D98EE67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F950B-20DF-4C11-86E5-110B8F32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BB1D1-B55E-4ADB-B252-3F26834E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A6B95-775E-4611-99DE-F813F716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7AF-D310-4A7C-AA55-DA0EE401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F8659-BC07-4206-B391-80940C3E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D7D70-D1CD-4445-A880-C365060AA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80922D-7356-499A-9B16-2398A31E6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7126D-2E38-4AC0-9454-23D6BD4C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4AEE5-125E-4C7E-9393-27BC2792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8D4C-F816-4E98-97F1-9774BDD6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F5B11-E03C-48B6-A606-24144E3B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12219-D06B-417E-921C-9C86D526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C4E89-E080-4072-9681-A6789B47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4330B-7284-4AC9-93FA-3461113A0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FFD2-7AD4-4717-8161-6A7DF524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CAA66-4BD1-4199-A398-0229991B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5E5D-46E2-459F-A0DF-B44F1880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9D41BE-3CBC-4656-BE66-CBA5AEBFF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5F806-9890-411D-8B9E-42F03870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908B4-CDCC-4E7B-A767-E532424B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02FEC-5CF0-4524-967F-B678D51D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6474F9-616A-401A-A164-2A29F70F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780BB-ADB2-440D-9A25-2E3D7C30E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625B9-859E-40EE-A42F-A71EDB7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706A61-1544-4210-839C-6C00470D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84D-DC9E-4F9F-B40A-4F9A3EB0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82F94-3295-4725-BA41-80EED1685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EC18C-6E90-4372-B23A-51802A8B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F9B26-1B68-44DB-85E4-84823A0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68431-6F28-494A-9FA1-A90C2E5C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98FB5-4CC5-41A6-9024-61ACF5E8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F6C0D-F053-448D-88AD-D9DA3582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5A70C-D4F1-4135-948F-8F67088D8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F5052-DFD4-46BD-9391-B4A52A09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68132-07ED-4ED4-8E18-31F2F79D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71894-BEB3-4AB9-9747-05FF726E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0A8E-F890-4196-82FA-8D413D21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1447560" y="609120"/>
            <a:ext cx="6629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88232-D947-4610-8654-CD312064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0BE33-0B14-46C3-8EDB-CDD99876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EF02B-8400-4CBF-98BA-18D22E990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8FA6F-CD67-4629-AEEB-E8B9EE2C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2418120" y="4080960"/>
            <a:ext cx="46882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E9C2-A4F4-4168-B770-15BFE5A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20760" y="25203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41812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820760" y="4080960"/>
            <a:ext cx="228780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1BBED-0B56-4FA6-9D1C-184D7903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00356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588640" y="25203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241812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400356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588640" y="4080960"/>
            <a:ext cx="1509480" cy="1424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276B9-337D-4D80-A742-7BF47F71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B61A4-928A-4E0F-AC2C-403047F84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3DCCF-2FC2-44EA-8709-39AFE567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F3A82-52C1-4CC2-A710-54CA30C7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FB4F-7E85-4582-866D-0E47EDD8595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4" name="Group 38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35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6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7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8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9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0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1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2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3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4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5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6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7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8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8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29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0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1084-504F-4EAB-AD0A-27D91EE8DD91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691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2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3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4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5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6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7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8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9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0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1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2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3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4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31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32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33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92FD0-6319-4ABC-AEF3-C42E98EBADC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6" name="Group 21"/>
          <p:cNvGrpSpPr/>
          <p:nvPr/>
        </p:nvGrpSpPr>
        <p:grpSpPr>
          <a:xfrm>
            <a:off x="3774960" y="2133720"/>
            <a:ext cx="5369040" cy="4724280"/>
            <a:chOff x="3774960" y="2133720"/>
            <a:chExt cx="5369040" cy="4724280"/>
          </a:xfrm>
        </p:grpSpPr>
        <p:sp>
          <p:nvSpPr>
            <p:cNvPr id="747" name="Oval 39"/>
            <p:cNvSpPr/>
            <p:nvPr/>
          </p:nvSpPr>
          <p:spPr>
            <a:xfrm>
              <a:off x="543168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8" name="Oval 40"/>
            <p:cNvSpPr/>
            <p:nvPr/>
          </p:nvSpPr>
          <p:spPr>
            <a:xfrm>
              <a:off x="469512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9" name="Oval 41"/>
            <p:cNvSpPr/>
            <p:nvPr/>
          </p:nvSpPr>
          <p:spPr>
            <a:xfrm>
              <a:off x="5431680" y="434232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0" name="Oval 42"/>
            <p:cNvSpPr/>
            <p:nvPr/>
          </p:nvSpPr>
          <p:spPr>
            <a:xfrm>
              <a:off x="533952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1" name="Oval 43"/>
            <p:cNvSpPr/>
            <p:nvPr/>
          </p:nvSpPr>
          <p:spPr>
            <a:xfrm>
              <a:off x="4879440" y="2133720"/>
              <a:ext cx="1840680" cy="184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2" name="Oval 44"/>
            <p:cNvSpPr/>
            <p:nvPr/>
          </p:nvSpPr>
          <p:spPr>
            <a:xfrm>
              <a:off x="791676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3" name="Oval 45"/>
            <p:cNvSpPr/>
            <p:nvPr/>
          </p:nvSpPr>
          <p:spPr>
            <a:xfrm>
              <a:off x="7824960" y="268560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4" name="Oval 46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5" name="Oval 47"/>
            <p:cNvSpPr/>
            <p:nvPr/>
          </p:nvSpPr>
          <p:spPr>
            <a:xfrm>
              <a:off x="6260040" y="581508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6" name="Oval 48"/>
            <p:cNvSpPr/>
            <p:nvPr/>
          </p:nvSpPr>
          <p:spPr>
            <a:xfrm>
              <a:off x="398952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7" name="Oval 49"/>
            <p:cNvSpPr/>
            <p:nvPr/>
          </p:nvSpPr>
          <p:spPr>
            <a:xfrm>
              <a:off x="5983920" y="63673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8" name="Oval 50"/>
            <p:cNvSpPr/>
            <p:nvPr/>
          </p:nvSpPr>
          <p:spPr>
            <a:xfrm>
              <a:off x="3774960" y="514008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9" name="Oval 51"/>
            <p:cNvSpPr/>
            <p:nvPr/>
          </p:nvSpPr>
          <p:spPr>
            <a:xfrm>
              <a:off x="414288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0" name="Oval 52"/>
            <p:cNvSpPr/>
            <p:nvPr/>
          </p:nvSpPr>
          <p:spPr>
            <a:xfrm>
              <a:off x="4511160" y="47106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 type="dt" idx="34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 type="ftr" idx="3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 type="sldNum" idx="36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3EC1-F762-4399-B289-E781A370F93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 type="dt" idx="3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 type="ftr" idx="3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 type="sldNum" idx="3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3A19-5CC1-4538-86B2-A15CD741E6A2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8"/>
          <p:cNvGrpSpPr/>
          <p:nvPr/>
        </p:nvGrpSpPr>
        <p:grpSpPr>
          <a:xfrm>
            <a:off x="685800" y="0"/>
            <a:ext cx="8001000" cy="7950240"/>
            <a:chOff x="685800" y="0"/>
            <a:chExt cx="8001000" cy="7950240"/>
          </a:xfrm>
        </p:grpSpPr>
        <p:sp>
          <p:nvSpPr>
            <p:cNvPr id="74" name="Pie 39"/>
            <p:cNvSpPr/>
            <p:nvPr/>
          </p:nvSpPr>
          <p:spPr>
            <a:xfrm flipH="1" flipV="1">
              <a:off x="1256760" y="5778720"/>
              <a:ext cx="2171520" cy="2171520"/>
            </a:xfrm>
            <a:custGeom>
              <a:avLst/>
              <a:gdLst>
                <a:gd name="textAreaLeft" fmla="*/ 317880 w 2171520"/>
                <a:gd name="textAreaRight" fmla="*/ 1853640 w 2171520"/>
                <a:gd name="textAreaTop" fmla="*/ 317880 h 2171520"/>
                <a:gd name="textAreaBottom" fmla="*/ 1853640 h 2171520"/>
              </a:gdLst>
              <a:ahLst/>
              <a:rect l="textAreaLeft" t="textAreaTop" r="textAreaRight" b="textAreaBottom"/>
              <a:pathLst>
                <a:path w="2171700" h="2171700">
                  <a:moveTo>
                    <a:pt x="2171700" y="1085850"/>
                  </a:moveTo>
                  <a:lnTo>
                    <a:pt x="2171700" y="1085850"/>
                  </a:lnTo>
                  <a:arcTo wR="1085850" hR="1085850" stAng="0" swAng="10800003"/>
                  <a:lnTo>
                    <a:pt x="1085850" y="1085850"/>
                  </a:lnTo>
                  <a:close/>
                </a:path>
              </a:pathLst>
            </a:cu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75" name="Group 52"/>
            <p:cNvGrpSpPr/>
            <p:nvPr/>
          </p:nvGrpSpPr>
          <p:grpSpPr>
            <a:xfrm>
              <a:off x="685800" y="0"/>
              <a:ext cx="8001000" cy="6855840"/>
              <a:chOff x="685800" y="0"/>
              <a:chExt cx="8001000" cy="6855840"/>
            </a:xfrm>
          </p:grpSpPr>
          <p:sp>
            <p:nvSpPr>
              <p:cNvPr id="76" name="Freeform 41"/>
              <p:cNvSpPr/>
              <p:nvPr/>
            </p:nvSpPr>
            <p:spPr>
              <a:xfrm>
                <a:off x="685800" y="588024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7" name="Oval 42"/>
              <p:cNvSpPr/>
              <p:nvPr/>
            </p:nvSpPr>
            <p:spPr>
              <a:xfrm>
                <a:off x="2590560" y="5181840"/>
                <a:ext cx="914400" cy="9144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8" name="Oval 43"/>
              <p:cNvSpPr/>
              <p:nvPr/>
            </p:nvSpPr>
            <p:spPr>
              <a:xfrm>
                <a:off x="838080" y="579132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79" name="Oval 44"/>
              <p:cNvSpPr/>
              <p:nvPr/>
            </p:nvSpPr>
            <p:spPr>
              <a:xfrm>
                <a:off x="2361960" y="594396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0" name="Oval 45"/>
              <p:cNvSpPr/>
              <p:nvPr/>
            </p:nvSpPr>
            <p:spPr>
              <a:xfrm>
                <a:off x="1676160" y="5626440"/>
                <a:ext cx="457200" cy="4572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1" name="Oval 46"/>
              <p:cNvSpPr/>
              <p:nvPr/>
            </p:nvSpPr>
            <p:spPr>
              <a:xfrm>
                <a:off x="1981080" y="5334120"/>
                <a:ext cx="355320" cy="3553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2" name="Oval 47"/>
              <p:cNvSpPr/>
              <p:nvPr/>
            </p:nvSpPr>
            <p:spPr>
              <a:xfrm>
                <a:off x="1942920" y="55627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3" name="Oval 48"/>
              <p:cNvSpPr/>
              <p:nvPr/>
            </p:nvSpPr>
            <p:spPr>
              <a:xfrm>
                <a:off x="2361960" y="5029200"/>
                <a:ext cx="761760" cy="76176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4" name="Oval 49"/>
              <p:cNvSpPr/>
              <p:nvPr/>
            </p:nvSpPr>
            <p:spPr>
              <a:xfrm>
                <a:off x="3009960" y="441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5" name="Oval 50"/>
              <p:cNvSpPr/>
              <p:nvPr/>
            </p:nvSpPr>
            <p:spPr>
              <a:xfrm>
                <a:off x="2971800" y="4648320"/>
                <a:ext cx="431640" cy="4316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6" name="Oval 51"/>
              <p:cNvSpPr/>
              <p:nvPr/>
            </p:nvSpPr>
            <p:spPr>
              <a:xfrm>
                <a:off x="3314520" y="472464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7" name="Oval 52"/>
              <p:cNvSpPr/>
              <p:nvPr/>
            </p:nvSpPr>
            <p:spPr>
              <a:xfrm>
                <a:off x="3619440" y="502920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8" name="Oval 53"/>
              <p:cNvSpPr/>
              <p:nvPr/>
            </p:nvSpPr>
            <p:spPr>
              <a:xfrm>
                <a:off x="1384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89" name="Oval 54"/>
              <p:cNvSpPr/>
              <p:nvPr/>
            </p:nvSpPr>
            <p:spPr>
              <a:xfrm>
                <a:off x="3505320" y="525816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0" name="Oval 55"/>
              <p:cNvSpPr/>
              <p:nvPr/>
            </p:nvSpPr>
            <p:spPr>
              <a:xfrm>
                <a:off x="1295280" y="566460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1" name="Oval 56"/>
              <p:cNvSpPr/>
              <p:nvPr/>
            </p:nvSpPr>
            <p:spPr>
              <a:xfrm>
                <a:off x="1447560" y="551196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2" name="Oval 57"/>
              <p:cNvSpPr/>
              <p:nvPr/>
            </p:nvSpPr>
            <p:spPr>
              <a:xfrm>
                <a:off x="1600200" y="54867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3" name="Oval 59"/>
              <p:cNvSpPr/>
              <p:nvPr/>
            </p:nvSpPr>
            <p:spPr>
              <a:xfrm>
                <a:off x="3352680" y="594396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4" name="Freeform 60"/>
              <p:cNvSpPr/>
              <p:nvPr/>
            </p:nvSpPr>
            <p:spPr>
              <a:xfrm flipV="1">
                <a:off x="5486400" y="0"/>
                <a:ext cx="1143000" cy="975600"/>
              </a:xfrm>
              <a:custGeom>
                <a:avLst/>
                <a:gdLst/>
                <a:ahLst/>
                <a:rect l="l" t="t" r="r" b="b"/>
                <a:pathLst>
                  <a:path w="1143001" h="975613">
                    <a:moveTo>
                      <a:pt x="1" y="571499"/>
                    </a:moveTo>
                    <a:cubicBezTo>
                      <a:pt x="1" y="419928"/>
                      <a:pt x="60213" y="274564"/>
                      <a:pt x="167390" y="167388"/>
                    </a:cubicBezTo>
                    <a:cubicBezTo>
                      <a:pt x="274567" y="60211"/>
                      <a:pt x="419931" y="0"/>
                      <a:pt x="571502" y="0"/>
                    </a:cubicBezTo>
                    <a:cubicBezTo>
                      <a:pt x="723073" y="0"/>
                      <a:pt x="868437" y="60212"/>
                      <a:pt x="975613" y="167389"/>
                    </a:cubicBezTo>
                    <a:cubicBezTo>
                      <a:pt x="1082790" y="274566"/>
                      <a:pt x="1143001" y="419930"/>
                      <a:pt x="1143001" y="571501"/>
                    </a:cubicBezTo>
                    <a:cubicBezTo>
                      <a:pt x="1143001" y="723072"/>
                      <a:pt x="1138214" y="908261"/>
                      <a:pt x="975612" y="975613"/>
                    </a:cubicBezTo>
                    <a:lnTo>
                      <a:pt x="167388" y="975612"/>
                    </a:lnTo>
                    <a:cubicBezTo>
                      <a:pt x="60211" y="868435"/>
                      <a:pt x="0" y="723071"/>
                      <a:pt x="0" y="571500"/>
                    </a:cubicBezTo>
                    <a:lnTo>
                      <a:pt x="1" y="57149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5" name="Oval 74"/>
              <p:cNvSpPr/>
              <p:nvPr/>
            </p:nvSpPr>
            <p:spPr>
              <a:xfrm flipV="1">
                <a:off x="7391520" y="759600"/>
                <a:ext cx="914400" cy="91440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6" name="Oval 75"/>
              <p:cNvSpPr/>
              <p:nvPr/>
            </p:nvSpPr>
            <p:spPr>
              <a:xfrm flipV="1">
                <a:off x="5638680" y="6073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7" name="Oval 77"/>
              <p:cNvSpPr/>
              <p:nvPr/>
            </p:nvSpPr>
            <p:spPr>
              <a:xfrm flipV="1">
                <a:off x="7162920" y="14976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8" name="Oval 78"/>
              <p:cNvSpPr/>
              <p:nvPr/>
            </p:nvSpPr>
            <p:spPr>
              <a:xfrm flipV="1">
                <a:off x="6477120" y="7722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99" name="Oval 92"/>
              <p:cNvSpPr/>
              <p:nvPr/>
            </p:nvSpPr>
            <p:spPr>
              <a:xfrm flipV="1">
                <a:off x="6782040" y="11653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0" name="Oval 93"/>
              <p:cNvSpPr/>
              <p:nvPr/>
            </p:nvSpPr>
            <p:spPr>
              <a:xfrm flipV="1">
                <a:off x="6743880" y="8604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1" name="Oval 98"/>
              <p:cNvSpPr/>
              <p:nvPr/>
            </p:nvSpPr>
            <p:spPr>
              <a:xfrm flipV="1">
                <a:off x="7162920" y="1064520"/>
                <a:ext cx="761760" cy="7617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2" name="Oval 99"/>
              <p:cNvSpPr/>
              <p:nvPr/>
            </p:nvSpPr>
            <p:spPr>
              <a:xfrm flipV="1">
                <a:off x="7810560" y="2079720"/>
                <a:ext cx="355320" cy="3553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3" name="Oval 100"/>
              <p:cNvSpPr/>
              <p:nvPr/>
            </p:nvSpPr>
            <p:spPr>
              <a:xfrm flipV="1">
                <a:off x="7772400" y="1774800"/>
                <a:ext cx="431640" cy="4316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4" name="Oval 101"/>
              <p:cNvSpPr/>
              <p:nvPr/>
            </p:nvSpPr>
            <p:spPr>
              <a:xfrm flipV="1">
                <a:off x="8115480" y="1928160"/>
                <a:ext cx="203040" cy="20304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5" name="Oval 102"/>
              <p:cNvSpPr/>
              <p:nvPr/>
            </p:nvSpPr>
            <p:spPr>
              <a:xfrm flipV="1">
                <a:off x="8420400" y="16232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6" name="Oval 103"/>
              <p:cNvSpPr/>
              <p:nvPr/>
            </p:nvSpPr>
            <p:spPr>
              <a:xfrm flipV="1">
                <a:off x="6184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7" name="Oval 104"/>
              <p:cNvSpPr/>
              <p:nvPr/>
            </p:nvSpPr>
            <p:spPr>
              <a:xfrm flipV="1">
                <a:off x="8305920" y="1394640"/>
                <a:ext cx="203040" cy="20304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8" name="Oval 105"/>
              <p:cNvSpPr/>
              <p:nvPr/>
            </p:nvSpPr>
            <p:spPr>
              <a:xfrm flipV="1">
                <a:off x="6096240" y="106452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09" name="Oval 106"/>
              <p:cNvSpPr/>
              <p:nvPr/>
            </p:nvSpPr>
            <p:spPr>
              <a:xfrm flipV="1">
                <a:off x="6248520" y="1216800"/>
                <a:ext cx="126720" cy="12672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0" name="Oval 107"/>
              <p:cNvSpPr/>
              <p:nvPr/>
            </p:nvSpPr>
            <p:spPr>
              <a:xfrm flipV="1">
                <a:off x="6400800" y="1242360"/>
                <a:ext cx="126720" cy="126720"/>
              </a:xfrm>
              <a:prstGeom prst="ellipse">
                <a:avLst/>
              </a:prstGeom>
              <a:solidFill>
                <a:srgbClr val="d7c8fe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11" name="Oval 108"/>
              <p:cNvSpPr/>
              <p:nvPr/>
            </p:nvSpPr>
            <p:spPr>
              <a:xfrm flipV="1">
                <a:off x="8153640" y="378000"/>
                <a:ext cx="533160" cy="533160"/>
              </a:xfrm>
              <a:prstGeom prst="ellipse">
                <a:avLst/>
              </a:prstGeom>
              <a:gradFill rotWithShape="0">
                <a:gsLst>
                  <a:gs pos="0">
                    <a:srgbClr val="9185ff">
                      <a:alpha val="60000"/>
                    </a:srgbClr>
                  </a:gs>
                  <a:gs pos="100000">
                    <a:srgbClr val="dedcff">
                      <a:alpha val="6000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Oval 109"/>
          <p:cNvSpPr/>
          <p:nvPr/>
        </p:nvSpPr>
        <p:spPr>
          <a:xfrm>
            <a:off x="8636040" y="658980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Oval 110"/>
          <p:cNvSpPr/>
          <p:nvPr/>
        </p:nvSpPr>
        <p:spPr>
          <a:xfrm>
            <a:off x="8788320" y="658980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Oval 111"/>
          <p:cNvSpPr/>
          <p:nvPr/>
        </p:nvSpPr>
        <p:spPr>
          <a:xfrm>
            <a:off x="8940960" y="6589800"/>
            <a:ext cx="12672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6477120" y="6521040"/>
            <a:ext cx="2133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8534160" y="6292440"/>
            <a:ext cx="6094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B542-6F7D-4EEA-8B33-05E78EC148FA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3683-23C9-4DF2-A1EC-30C308E812B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38"/>
          <p:cNvGrpSpPr/>
          <p:nvPr/>
        </p:nvGrpSpPr>
        <p:grpSpPr>
          <a:xfrm>
            <a:off x="4592520" y="2133720"/>
            <a:ext cx="3865680" cy="4171680"/>
            <a:chOff x="4592520" y="2133720"/>
            <a:chExt cx="3865680" cy="4171680"/>
          </a:xfrm>
        </p:grpSpPr>
        <p:sp>
          <p:nvSpPr>
            <p:cNvPr id="230" name="Oval 39"/>
            <p:cNvSpPr/>
            <p:nvPr/>
          </p:nvSpPr>
          <p:spPr>
            <a:xfrm>
              <a:off x="6249240" y="2501640"/>
              <a:ext cx="2208960" cy="220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1" name="Oval 40"/>
            <p:cNvSpPr/>
            <p:nvPr/>
          </p:nvSpPr>
          <p:spPr>
            <a:xfrm>
              <a:off x="5512680" y="5047920"/>
              <a:ext cx="1104480" cy="11041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2" name="Oval 41"/>
            <p:cNvSpPr/>
            <p:nvPr/>
          </p:nvSpPr>
          <p:spPr>
            <a:xfrm>
              <a:off x="6249240" y="4342320"/>
              <a:ext cx="858960" cy="8586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3" name="Oval 42"/>
            <p:cNvSpPr/>
            <p:nvPr/>
          </p:nvSpPr>
          <p:spPr>
            <a:xfrm>
              <a:off x="6157080" y="4894560"/>
              <a:ext cx="1042920" cy="10429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4" name="Oval 43"/>
            <p:cNvSpPr/>
            <p:nvPr/>
          </p:nvSpPr>
          <p:spPr>
            <a:xfrm>
              <a:off x="5697000" y="2133720"/>
              <a:ext cx="1840680" cy="18403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5" name="Oval 44"/>
            <p:cNvSpPr/>
            <p:nvPr/>
          </p:nvSpPr>
          <p:spPr>
            <a:xfrm>
              <a:off x="7077600" y="5814720"/>
              <a:ext cx="490680" cy="490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6" name="Oval 45"/>
            <p:cNvSpPr/>
            <p:nvPr/>
          </p:nvSpPr>
          <p:spPr>
            <a:xfrm>
              <a:off x="480708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7" name="Oval 46"/>
            <p:cNvSpPr/>
            <p:nvPr/>
          </p:nvSpPr>
          <p:spPr>
            <a:xfrm>
              <a:off x="4592520" y="513972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8" name="Oval 47"/>
            <p:cNvSpPr/>
            <p:nvPr/>
          </p:nvSpPr>
          <p:spPr>
            <a:xfrm>
              <a:off x="4960440" y="47718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39" name="Oval 48"/>
            <p:cNvSpPr/>
            <p:nvPr/>
          </p:nvSpPr>
          <p:spPr>
            <a:xfrm>
              <a:off x="5328720" y="47102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609480" y="990720"/>
            <a:ext cx="1179720" cy="1357200"/>
            <a:chOff x="609480" y="990720"/>
            <a:chExt cx="1179720" cy="1357200"/>
          </a:xfrm>
        </p:grpSpPr>
        <p:sp>
          <p:nvSpPr>
            <p:cNvPr id="241" name="Oval 50"/>
            <p:cNvSpPr/>
            <p:nvPr/>
          </p:nvSpPr>
          <p:spPr>
            <a:xfrm>
              <a:off x="898560" y="1456920"/>
              <a:ext cx="890640" cy="89100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 flipV="1">
              <a:off x="647280" y="1295640"/>
              <a:ext cx="355680" cy="3556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3" name="Oval 52"/>
            <p:cNvSpPr/>
            <p:nvPr/>
          </p:nvSpPr>
          <p:spPr>
            <a:xfrm flipV="1">
              <a:off x="609480" y="990720"/>
              <a:ext cx="431640" cy="43200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44" name="Oval 53"/>
            <p:cNvSpPr/>
            <p:nvPr/>
          </p:nvSpPr>
          <p:spPr>
            <a:xfrm flipV="1">
              <a:off x="952200" y="1143000"/>
              <a:ext cx="203040" cy="20304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492A-535A-46FC-A093-B76D478B71A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7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8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9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0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1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2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3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4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5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6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7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8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9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0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1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2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3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4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5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6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7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8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9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0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1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2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3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4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5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6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7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3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14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15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BD4-C9D3-4289-B5BE-2F0BB24F34CE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002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0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1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2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3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4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5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6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7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8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9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0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1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2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3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4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5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6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7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8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9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0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1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2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3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4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5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6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7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8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9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0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6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17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755F-7B3A-4E5B-846B-A95610D7C40F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3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4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5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6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7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8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39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0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1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2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3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4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5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6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7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8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9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0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1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2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3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4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5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7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8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9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0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1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2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3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19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20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2B45-F646-442D-BFEA-CB742E75F57D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b0029"/>
            </a:gs>
            <a:gs pos="100000">
              <a:srgbClr val="5332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Oval 58"/>
          <p:cNvSpPr/>
          <p:nvPr/>
        </p:nvSpPr>
        <p:spPr>
          <a:xfrm>
            <a:off x="685800" y="152280"/>
            <a:ext cx="914400" cy="9144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6" name="Oval 61"/>
          <p:cNvSpPr/>
          <p:nvPr/>
        </p:nvSpPr>
        <p:spPr>
          <a:xfrm>
            <a:off x="380880" y="1206360"/>
            <a:ext cx="457200" cy="4572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7" name="Oval 62"/>
          <p:cNvSpPr/>
          <p:nvPr/>
        </p:nvSpPr>
        <p:spPr>
          <a:xfrm>
            <a:off x="685800" y="914400"/>
            <a:ext cx="355680" cy="3556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8" name="Oval 63"/>
          <p:cNvSpPr/>
          <p:nvPr/>
        </p:nvSpPr>
        <p:spPr>
          <a:xfrm>
            <a:off x="647640" y="1143000"/>
            <a:ext cx="43200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9" name="Oval 64"/>
          <p:cNvSpPr/>
          <p:nvPr/>
        </p:nvSpPr>
        <p:spPr>
          <a:xfrm>
            <a:off x="457200" y="0"/>
            <a:ext cx="762120" cy="7621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0" name="Oval 65"/>
          <p:cNvSpPr/>
          <p:nvPr/>
        </p:nvSpPr>
        <p:spPr>
          <a:xfrm>
            <a:off x="1714680" y="0"/>
            <a:ext cx="355320" cy="3556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1" name="Oval 66"/>
          <p:cNvSpPr/>
          <p:nvPr/>
        </p:nvSpPr>
        <p:spPr>
          <a:xfrm>
            <a:off x="1676520" y="228600"/>
            <a:ext cx="431640" cy="4316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2" name="Oval 67"/>
          <p:cNvSpPr/>
          <p:nvPr/>
        </p:nvSpPr>
        <p:spPr>
          <a:xfrm>
            <a:off x="2019240" y="3049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3" name="Oval 68"/>
          <p:cNvSpPr/>
          <p:nvPr/>
        </p:nvSpPr>
        <p:spPr>
          <a:xfrm>
            <a:off x="1028880" y="15238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4" name="Oval 69"/>
          <p:cNvSpPr/>
          <p:nvPr/>
        </p:nvSpPr>
        <p:spPr>
          <a:xfrm>
            <a:off x="88920" y="106668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5" name="Oval 70"/>
          <p:cNvSpPr/>
          <p:nvPr/>
        </p:nvSpPr>
        <p:spPr>
          <a:xfrm>
            <a:off x="914400" y="1752480"/>
            <a:ext cx="203040" cy="203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6" name="Oval 71"/>
          <p:cNvSpPr/>
          <p:nvPr/>
        </p:nvSpPr>
        <p:spPr>
          <a:xfrm>
            <a:off x="0" y="1244520"/>
            <a:ext cx="12708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7" name="Oval 72"/>
          <p:cNvSpPr/>
          <p:nvPr/>
        </p:nvSpPr>
        <p:spPr>
          <a:xfrm>
            <a:off x="152280" y="1092240"/>
            <a:ext cx="127080" cy="12708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8" name="Oval 73"/>
          <p:cNvSpPr/>
          <p:nvPr/>
        </p:nvSpPr>
        <p:spPr>
          <a:xfrm>
            <a:off x="304920" y="1066680"/>
            <a:ext cx="126720" cy="12708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9" name="Oval 76"/>
          <p:cNvSpPr/>
          <p:nvPr/>
        </p:nvSpPr>
        <p:spPr>
          <a:xfrm flipV="1" rot="6198000">
            <a:off x="7932600" y="5568840"/>
            <a:ext cx="914400" cy="9144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0" name="Oval 79"/>
          <p:cNvSpPr/>
          <p:nvPr/>
        </p:nvSpPr>
        <p:spPr>
          <a:xfrm flipV="1" rot="6198000">
            <a:off x="8634240" y="4734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1" name="Oval 80"/>
          <p:cNvSpPr/>
          <p:nvPr/>
        </p:nvSpPr>
        <p:spPr>
          <a:xfrm flipV="1" rot="6198000">
            <a:off x="8292600" y="4952160"/>
            <a:ext cx="355680" cy="3553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2" name="Oval 81"/>
          <p:cNvSpPr/>
          <p:nvPr/>
        </p:nvSpPr>
        <p:spPr>
          <a:xfrm flipV="1" rot="6198000">
            <a:off x="8513280" y="4976640"/>
            <a:ext cx="432000" cy="43200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3" name="Oval 82"/>
          <p:cNvSpPr/>
          <p:nvPr/>
        </p:nvSpPr>
        <p:spPr>
          <a:xfrm flipV="1" rot="6198000">
            <a:off x="7856280" y="5294880"/>
            <a:ext cx="762120" cy="761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4" name="Oval 83"/>
          <p:cNvSpPr/>
          <p:nvPr/>
        </p:nvSpPr>
        <p:spPr>
          <a:xfrm flipV="1" rot="6198000">
            <a:off x="199800" y="5914080"/>
            <a:ext cx="215640" cy="215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5" name="Oval 84"/>
          <p:cNvSpPr/>
          <p:nvPr/>
        </p:nvSpPr>
        <p:spPr>
          <a:xfrm flipV="1" rot="6198000">
            <a:off x="7387920" y="5766480"/>
            <a:ext cx="431640" cy="4316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6" name="Oval 85"/>
          <p:cNvSpPr/>
          <p:nvPr/>
        </p:nvSpPr>
        <p:spPr>
          <a:xfrm flipV="1" rot="6198000">
            <a:off x="7411320" y="6095520"/>
            <a:ext cx="203400" cy="20304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7" name="Oval 86"/>
          <p:cNvSpPr/>
          <p:nvPr/>
        </p:nvSpPr>
        <p:spPr>
          <a:xfrm flipV="1" rot="6198000">
            <a:off x="7638840" y="646164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8" name="Oval 87"/>
          <p:cNvSpPr/>
          <p:nvPr/>
        </p:nvSpPr>
        <p:spPr>
          <a:xfrm flipV="1" rot="6198000">
            <a:off x="8607240" y="4384800"/>
            <a:ext cx="12672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9" name="Oval 88"/>
          <p:cNvSpPr/>
          <p:nvPr/>
        </p:nvSpPr>
        <p:spPr>
          <a:xfrm flipV="1" rot="6198000">
            <a:off x="7887960" y="6402960"/>
            <a:ext cx="203040" cy="20304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0" name="Oval 89"/>
          <p:cNvSpPr/>
          <p:nvPr/>
        </p:nvSpPr>
        <p:spPr>
          <a:xfrm flipV="1" rot="6198000">
            <a:off x="8800560" y="433800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1" name="Oval 90"/>
          <p:cNvSpPr/>
          <p:nvPr/>
        </p:nvSpPr>
        <p:spPr>
          <a:xfrm flipV="1" rot="6198000">
            <a:off x="8616600" y="4450320"/>
            <a:ext cx="127080" cy="12672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2" name="Oval 91"/>
          <p:cNvSpPr/>
          <p:nvPr/>
        </p:nvSpPr>
        <p:spPr>
          <a:xfrm flipV="1" rot="6198000">
            <a:off x="8557920" y="459324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3" name="Oval 94"/>
          <p:cNvSpPr/>
          <p:nvPr/>
        </p:nvSpPr>
        <p:spPr>
          <a:xfrm flipV="1" rot="6198000">
            <a:off x="242280" y="6241320"/>
            <a:ext cx="127080" cy="1263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4" name="Oval 95"/>
          <p:cNvSpPr/>
          <p:nvPr/>
        </p:nvSpPr>
        <p:spPr>
          <a:xfrm flipV="1" rot="6198000">
            <a:off x="435960" y="619524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Oval 96"/>
          <p:cNvSpPr/>
          <p:nvPr/>
        </p:nvSpPr>
        <p:spPr>
          <a:xfrm flipV="1" rot="6198000">
            <a:off x="253440" y="6307920"/>
            <a:ext cx="127080" cy="1263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6" name="Oval 97"/>
          <p:cNvSpPr/>
          <p:nvPr/>
        </p:nvSpPr>
        <p:spPr>
          <a:xfrm flipV="1" rot="6198000">
            <a:off x="193320" y="6450480"/>
            <a:ext cx="127080" cy="1267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22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23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24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1188-F5BA-4962-81C1-C77E2EF1F8B3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5f23"/>
            </a:gs>
            <a:gs pos="100000">
              <a:srgbClr val="9aeb9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Group 22"/>
          <p:cNvGrpSpPr/>
          <p:nvPr/>
        </p:nvGrpSpPr>
        <p:grpSpPr>
          <a:xfrm>
            <a:off x="4695840" y="2133720"/>
            <a:ext cx="4448160" cy="4019400"/>
            <a:chOff x="4695840" y="2133720"/>
            <a:chExt cx="4448160" cy="4019400"/>
          </a:xfrm>
        </p:grpSpPr>
        <p:sp>
          <p:nvSpPr>
            <p:cNvPr id="579" name="Oval 39"/>
            <p:cNvSpPr/>
            <p:nvPr/>
          </p:nvSpPr>
          <p:spPr>
            <a:xfrm>
              <a:off x="4695840" y="5048640"/>
              <a:ext cx="1104120" cy="110448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0" name="Oval 40"/>
            <p:cNvSpPr/>
            <p:nvPr/>
          </p:nvSpPr>
          <p:spPr>
            <a:xfrm>
              <a:off x="7065720" y="4572360"/>
              <a:ext cx="858960" cy="85896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1" name="Oval 41"/>
            <p:cNvSpPr/>
            <p:nvPr/>
          </p:nvSpPr>
          <p:spPr>
            <a:xfrm>
              <a:off x="5339880" y="489528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2" name="Oval 42"/>
            <p:cNvSpPr/>
            <p:nvPr/>
          </p:nvSpPr>
          <p:spPr>
            <a:xfrm>
              <a:off x="6693840" y="3048120"/>
              <a:ext cx="1840680" cy="184104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3" name="Oval 43"/>
            <p:cNvSpPr/>
            <p:nvPr/>
          </p:nvSpPr>
          <p:spPr>
            <a:xfrm>
              <a:off x="7917120" y="2133720"/>
              <a:ext cx="858960" cy="85896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4" name="Oval 44"/>
            <p:cNvSpPr/>
            <p:nvPr/>
          </p:nvSpPr>
          <p:spPr>
            <a:xfrm>
              <a:off x="7824960" y="2685960"/>
              <a:ext cx="1042920" cy="10432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5" name="Oval 45"/>
            <p:cNvSpPr/>
            <p:nvPr/>
          </p:nvSpPr>
          <p:spPr>
            <a:xfrm>
              <a:off x="8653320" y="2869920"/>
              <a:ext cx="490680" cy="49068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6" name="Oval 46"/>
            <p:cNvSpPr/>
            <p:nvPr/>
          </p:nvSpPr>
          <p:spPr>
            <a:xfrm>
              <a:off x="655236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7" name="Oval 47"/>
            <p:cNvSpPr/>
            <p:nvPr/>
          </p:nvSpPr>
          <p:spPr>
            <a:xfrm>
              <a:off x="6782040" y="556344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8" name="Oval 48"/>
            <p:cNvSpPr/>
            <p:nvPr/>
          </p:nvSpPr>
          <p:spPr>
            <a:xfrm>
              <a:off x="6705720" y="5182200"/>
              <a:ext cx="306720" cy="306720"/>
            </a:xfrm>
            <a:prstGeom prst="ellipse">
              <a:avLst/>
            </a:prstGeom>
            <a:gradFill rotWithShape="0">
              <a:gsLst>
                <a:gs pos="0">
                  <a:srgbClr val="9185ff">
                    <a:alpha val="60000"/>
                  </a:srgbClr>
                </a:gs>
                <a:gs pos="100000">
                  <a:srgbClr val="dedcff">
                    <a:alpha val="6000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89" name="Oval 49"/>
            <p:cNvSpPr/>
            <p:nvPr/>
          </p:nvSpPr>
          <p:spPr>
            <a:xfrm>
              <a:off x="7073640" y="5121000"/>
              <a:ext cx="306720" cy="306720"/>
            </a:xfrm>
            <a:prstGeom prst="ellipse">
              <a:avLst/>
            </a:prstGeom>
            <a:solidFill>
              <a:srgbClr val="d7c8f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590" name="Oval 50"/>
          <p:cNvSpPr/>
          <p:nvPr/>
        </p:nvSpPr>
        <p:spPr>
          <a:xfrm>
            <a:off x="3886200" y="5638680"/>
            <a:ext cx="304920" cy="30492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1" name="Oval 51"/>
          <p:cNvSpPr/>
          <p:nvPr/>
        </p:nvSpPr>
        <p:spPr>
          <a:xfrm>
            <a:off x="3319560" y="5148360"/>
            <a:ext cx="185760" cy="185760"/>
          </a:xfrm>
          <a:prstGeom prst="ellipse">
            <a:avLst/>
          </a:prstGeom>
          <a:solidFill>
            <a:srgbClr val="d7c8f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2" name="Oval 52"/>
          <p:cNvSpPr/>
          <p:nvPr/>
        </p:nvSpPr>
        <p:spPr>
          <a:xfrm>
            <a:off x="3225960" y="5103720"/>
            <a:ext cx="185400" cy="185760"/>
          </a:xfrm>
          <a:prstGeom prst="ellipse">
            <a:avLst/>
          </a:prstGeom>
          <a:gradFill rotWithShape="0">
            <a:gsLst>
              <a:gs pos="0">
                <a:srgbClr val="9185ff">
                  <a:alpha val="60000"/>
                </a:srgbClr>
              </a:gs>
              <a:gs pos="100000">
                <a:srgbClr val="dedcff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2418120" y="2520360"/>
            <a:ext cx="4688280" cy="2987280"/>
          </a:xfrm>
          <a:prstGeom prst="rect">
            <a:avLst/>
          </a:prstGeom>
          <a:solidFill>
            <a:srgbClr val="d7c8fe">
              <a:alpha val="20000"/>
            </a:srgbClr>
          </a:solidFill>
          <a:ln w="0">
            <a:noFill/>
          </a:ln>
        </p:spPr>
        <p:txBody>
          <a:bodyPr lIns="45720" rIns="45720" tIns="46800" bIns="46800" anchor="t">
            <a:normAutofit fontScale="88000"/>
          </a:bodyPr>
          <a:p>
            <a:pPr marL="20088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1" marL="4525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2" marL="70956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3" marL="958320" indent="-2008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4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5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lvl="6" marL="1206720" indent="-200880">
              <a:spcBef>
                <a:spcPts val="1800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521040"/>
            <a:ext cx="28958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521040"/>
            <a:ext cx="213372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B1C1-3C97-4554-836D-58A33A6941B6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Title 1" descr=""/>
          <p:cNvPicPr/>
          <p:nvPr/>
        </p:nvPicPr>
        <p:blipFill>
          <a:blip r:embed="rId1"/>
          <a:stretch/>
        </p:blipFill>
        <p:spPr>
          <a:xfrm>
            <a:off x="682560" y="1407960"/>
            <a:ext cx="7454880" cy="1517760"/>
          </a:xfrm>
          <a:prstGeom prst="rect">
            <a:avLst/>
          </a:prstGeom>
          <a:ln w="0">
            <a:noFill/>
          </a:ln>
        </p:spPr>
      </p:pic>
      <p:pic>
        <p:nvPicPr>
          <p:cNvPr id="876" name="Subtitle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3346560" y="2938320"/>
            <a:ext cx="444492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3" name="camstudio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714680" y="17272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" dur="1" fill="hold"/>
                                        <p:tgtEl>
                                          <p:spTgt spid="8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ESS_Summer_Symposium.wmv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1371600" y="1143000"/>
            <a:ext cx="627840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429" fill="hold"/>
                                        <p:tgtEl>
                                          <p:spTgt spid="8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7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7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7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0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139760" y="1749600"/>
            <a:ext cx="702324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2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3" name="Zamzar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457200" y="2062080"/>
            <a:ext cx="807732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88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88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Title 1" descr=""/>
          <p:cNvPicPr/>
          <p:nvPr/>
        </p:nvPicPr>
        <p:blipFill>
          <a:blip r:embed="rId1"/>
          <a:stretch/>
        </p:blipFill>
        <p:spPr>
          <a:xfrm>
            <a:off x="1243080" y="480960"/>
            <a:ext cx="6840360" cy="1281240"/>
          </a:xfrm>
          <a:prstGeom prst="rect">
            <a:avLst/>
          </a:prstGeom>
          <a:ln w="0">
            <a:noFill/>
          </a:ln>
        </p:spPr>
      </p:pic>
      <p:pic>
        <p:nvPicPr>
          <p:cNvPr id="885" name="xtranormal.wmv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523880" y="1828800"/>
            <a:ext cx="739152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83269" fill="hold"/>
                                        <p:tgtEl>
                                          <p:spTgt spid="8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85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885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8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Title 1" descr=""/>
          <p:cNvPicPr/>
          <p:nvPr/>
        </p:nvPicPr>
        <p:blipFill>
          <a:blip r:embed="rId1"/>
          <a:stretch/>
        </p:blipFill>
        <p:spPr>
          <a:xfrm>
            <a:off x="1243080" y="603360"/>
            <a:ext cx="7450200" cy="1158840"/>
          </a:xfrm>
          <a:prstGeom prst="rect">
            <a:avLst/>
          </a:prstGeom>
          <a:ln w="0">
            <a:noFill/>
          </a:ln>
        </p:spPr>
      </p:pic>
      <p:pic>
        <p:nvPicPr>
          <p:cNvPr id="887" name="animoto_video.mp4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981080" y="19843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" dur="1" fill="hold"/>
                                        <p:tgtEl>
                                          <p:spTgt spid="8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89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Title 1" descr=""/>
          <p:cNvPicPr/>
          <p:nvPr/>
        </p:nvPicPr>
        <p:blipFill>
          <a:blip r:embed="rId1"/>
          <a:stretch/>
        </p:blipFill>
        <p:spPr>
          <a:xfrm>
            <a:off x="1212840" y="603360"/>
            <a:ext cx="6870600" cy="1158840"/>
          </a:xfrm>
          <a:prstGeom prst="rect">
            <a:avLst/>
          </a:prstGeom>
          <a:ln w="0">
            <a:noFill/>
          </a:ln>
        </p:spPr>
      </p:pic>
      <p:pic>
        <p:nvPicPr>
          <p:cNvPr id="891" name="Content Placeholder 2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1444680" y="1895400"/>
            <a:ext cx="663876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31T20:36:09Z</dcterms:created>
  <dc:creator>JulieA</dc:creator>
  <dc:description/>
  <dc:language>en-US</dc:language>
  <cp:lastModifiedBy>JulieA</cp:lastModifiedBy>
  <dcterms:modified xsi:type="dcterms:W3CDTF">2010-06-01T04:04:22Z</dcterms:modified>
  <cp:revision>44</cp:revision>
  <dc:subject/>
  <dc:title>Slide 1</dc:title>
</cp:coreProperties>
</file>